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5B5-CCE1-49A7-A45D-2BE4BE51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16A-EF1A-462F-965F-DB90125E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D51-9C07-4879-8FBA-E3C6D59F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161-5EDF-435E-A279-A1AA6ACE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58F-E417-425A-AD11-922C42E9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431-8A50-44A4-BFC5-BD704E50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FF1-4407-4A76-A6B0-49A89A39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A32-4D78-49E1-B5D7-E1594AE9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855-7092-40A7-9EBD-40E56F0B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F7C-B5C2-463E-BD5A-B64371BE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D57-627A-45BC-8B62-4EF211F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358-D430-4E7A-8198-F1A6F388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838B-3B26-4BE0-8BD0-557C43EFB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orn.jpg"/>
          <p:cNvPicPr/>
          <p:nvPr/>
        </p:nvPicPr>
        <p:blipFill>
          <a:blip r:embed="rId1"/>
          <a:stretch/>
        </p:blipFill>
        <p:spPr>
          <a:xfrm>
            <a:off x="228600" y="228600"/>
            <a:ext cx="342900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bananas.jpg"/>
          <p:cNvPicPr/>
          <p:nvPr/>
        </p:nvPicPr>
        <p:blipFill>
          <a:blip r:embed="rId2"/>
          <a:stretch/>
        </p:blipFill>
        <p:spPr>
          <a:xfrm>
            <a:off x="3809880" y="3200400"/>
            <a:ext cx="4953240" cy="328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moneyJPG.JPG"/>
          <p:cNvPicPr/>
          <p:nvPr/>
        </p:nvPicPr>
        <p:blipFill>
          <a:blip r:embed="rId3"/>
          <a:stretch/>
        </p:blipFill>
        <p:spPr>
          <a:xfrm>
            <a:off x="304920" y="3429000"/>
            <a:ext cx="3381120" cy="3029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oins.jpg"/>
          <p:cNvPicPr/>
          <p:nvPr/>
        </p:nvPicPr>
        <p:blipFill>
          <a:blip r:embed="rId4"/>
          <a:stretch/>
        </p:blipFill>
        <p:spPr>
          <a:xfrm>
            <a:off x="4495680" y="304920"/>
            <a:ext cx="281952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4:23:53Z</dcterms:created>
  <dc:creator>2011ZalalaSt</dc:creator>
  <dc:description/>
  <dc:language>en-US</dc:language>
  <cp:lastModifiedBy>2011ZalalaSt</cp:lastModifiedBy>
  <dcterms:modified xsi:type="dcterms:W3CDTF">2010-06-01T14:31:02Z</dcterms:modified>
  <cp:revision>2</cp:revision>
  <dc:subject/>
  <dc:title>Slide 1</dc:title>
</cp:coreProperties>
</file>